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3E0-AD22-4AF1-83A7-2612ECB5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A49-F563-4A83-B1D7-79B9AFA8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0D6-3CCA-4D04-8641-F101206F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ED7-A270-4330-9B5A-2E989B50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326-5149-4417-A785-E144F20A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421-35DB-4EED-BF96-D7862570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41E-5011-4C6A-A432-AF664E25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C81-A227-4F2F-8C7A-601318B5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768-4645-411B-BD63-202C6DBB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6A8-B825-4A26-92FF-A6984A34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B2F-374D-4419-BF71-82D9A25D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8DF-1FCC-4762-B942-837F2FA4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B930-1567-4AD6-8666-10748E2A0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a 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2421000"/>
            <a:ext cx="540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thoge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ease read page 63 which describes the work of Semmelwei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complete Questions 3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en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6 keywords from today’s lesson. Write a keyword definition box in your book giving your definition for each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sheet of A4 paper. One person to act as scri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in small groups (3 or 4people who are sitting together,  write down the names of all the diseases that you and your family have h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did your group l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list. Mark which ones you think were infecti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Infectious dise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Pathogenic Micro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2670480" cy="20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79960" y="3938760"/>
            <a:ext cx="317340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1886040" cy="1666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16000" y="5867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63705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us bu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athogens cause dis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athogens get into your body they multiply rapidly. They cause disease either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poisonous chemicals (toxins) which damage the body or its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damaging the cells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over the bodies cells to produce more of themselves (viruses) whilst destroying the cell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4724280"/>
            <a:ext cx="67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869000"/>
            <a:ext cx="7993080" cy="1191240"/>
          </a:xfrm>
          <a:prstGeom prst="rect">
            <a:avLst/>
          </a:prstGeom>
          <a:solidFill>
            <a:srgbClr val="fa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00"/>
                </a:solidFill>
                <a:latin typeface="Arial"/>
              </a:rPr>
              <a:t>SYMPTOMS: these activities produce a reaction in your body which we call symptoms e.g. headaches, high temperature,sore throats and rashes. These symptoms are caused by the pathogens or the toxins they produ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ome differences between Bacteria and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age 62 to read about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in your books put the Tit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Questions 1 and 2 from page 6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857680" cy="167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2670120" cy="2140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67012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148360" y="3789360"/>
            <a:ext cx="3314520" cy="2352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2637000"/>
            <a:ext cx="67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 can come in different shapes – rods , spirals or ball shapes.  They are all very tiny and can only be seen through a high powered microsc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067280" y="907920"/>
            <a:ext cx="1885680" cy="1667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659640" y="1773360"/>
            <a:ext cx="1866960" cy="3638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1041480" cy="1062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76720" y="3191040"/>
            <a:ext cx="1533240" cy="1533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54936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are even smaller than bacteria.  They do not have the normal features of cells.  They have no cell walls and are very regular in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31:22Z</dcterms:created>
  <dc:creator>Pat</dc:creator>
  <dc:description/>
  <dc:language>en-US</dc:language>
  <cp:lastModifiedBy>Pat</cp:lastModifiedBy>
  <dcterms:modified xsi:type="dcterms:W3CDTF">2006-10-04T21:17:42Z</dcterms:modified>
  <cp:revision>4</cp:revision>
  <dc:subject/>
  <dc:title>Pathogens</dc:title>
</cp:coreProperties>
</file>